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E767-5D1A-40BB-84B9-48FA27BA7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40F0-6652-4C54-9DFB-2582FA5D7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6FE8-08B4-4615-8FA6-AEA595AA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9A5F-B12B-473B-A93C-3C1172AC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79F78-DD4D-4D22-B9BF-415C63A9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B1825-4699-493D-BD0F-22E94B363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FB802A-51A4-4788-B4CD-C6648FDD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C19852-C71C-4708-9E4B-A88FD2AB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5F4CEE-564C-4460-9690-24F9FF31A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1157A-110E-4850-B899-43E8EB9A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E7C2B-7951-406F-9084-A83BA827F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5FCF-4F7D-4645-8A86-37E98F7B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6A83B-0D98-4BEC-BD95-3E60BE6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EB5AD2-D7B2-4FCF-A192-F9DDC802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4B2B1-255E-49E3-A91F-7DEF8A53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FD43D3-FB37-4B34-A8B3-BB5ADC29C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F7544C-2B6B-41C5-BBE3-81443554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BBCC-580A-4574-AE92-B1292AA2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D88-42D8-446D-910C-CD8F58FB2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D35-7DCE-409E-B58F-08B309FB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535-7098-4B32-A5DE-2B1BC125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C9DA-04EA-43A3-8C7B-BA1B6DC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4389-92AF-4379-BE82-B5303945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D07-4647-4866-A312-ABC1C4E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D4D-C896-4C27-871B-C81F4F4D04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C7C1D-4DB6-44A6-8DDB-9F031FE77C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cit.cornell.edu/policy/memos/facebook.html" TargetMode="External"/><Relationship Id="rId2" Type="http://schemas.openxmlformats.org/officeDocument/2006/relationships/hyperlink" Target="http://www.educause.edu/apps/er/erm06/erm0660.asp" TargetMode="External"/><Relationship Id="rId3" Type="http://schemas.openxmlformats.org/officeDocument/2006/relationships/hyperlink" Target="http://www.educause.edu/LIVE0621" TargetMode="External"/><Relationship Id="rId4" Type="http://schemas.openxmlformats.org/officeDocument/2006/relationships/hyperlink" Target="http://blogs.edgehill.ac.uk/webservices/2007/10/30/fear-of-facebook/" TargetMode="External"/><Relationship Id="rId5" Type="http://schemas.openxmlformats.org/officeDocument/2006/relationships/hyperlink" Target="http://student.independent.co.uk/university_life/article3068385.ece" TargetMode="External"/><Relationship Id="rId6" Type="http://schemas.openxmlformats.org/officeDocument/2006/relationships/hyperlink" Target="http://www.apple.com/au/education/digitalkids/disconnect/landscape.html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1447920"/>
            <a:ext cx="883944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Facebook: teaching, communicating and collaborating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09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ny Bre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ad of IT Support Staff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esday 6 November 200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Disciplinary Ac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name your employer and then defame them or say anything to bring them into disrepu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xford Students have been disciplined with evidence from Facebook after post-exam “trash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April, students at a Toronto school were banned from an end-of-the-year trip after disparaging remarks about a teacher were found on Face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o why use Facebook for Teaching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sonal and professional networking only differ in the content, not the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s today are “digitally nativ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divide between the way they learn and the way we te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the digital immigrant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 students the way they prefer to learn may improve attai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Digital Natives vs. Digital Immigrant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990720" y="1295280"/>
          <a:ext cx="7315200" cy="472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295280"/>
                    <a:ext cx="7315200" cy="47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525960" y="6361200"/>
            <a:ext cx="839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urce: http://www.apple.com/au/education/digitalkids/disconnect/landscape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each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your students in group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Have them as Facebook “friends” perhaps with limited profile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t and share UR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eblearn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ading l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ther online mate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hotos &amp; Videos (but watch copyright!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mmunic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cus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ide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sted items (Weblearn URLs?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 events and invit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oups for tutorial grou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on’t have to be a friend to be in a group with some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messages &amp; thre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llaborating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oss-Institu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bject-specific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y sear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s or Events for specific conferences/meet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CISA is experimenting with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sy way to post and share videos and pho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versal across HE worldwide (almost!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n’t forget ownership &amp; privacy issue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Exercis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profile if you don’t already have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 your privacy 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in the Oxford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friends with your neighb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your neighbour only see your limited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groups that cover your su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ke a group and invite your neighbour to it – or join an existing 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ve a look at the Oxford network p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 for some people you kn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usual names are easier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www.cit.cornell.edu/policy/memos/facebook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ful notes from Cornell (April 2006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http://www.educause.edu/apps/er/erm06/erm0660.as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s from Educause December 2006 (lo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http://www.educause.edu/LIVE06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Live presentation: Facing Facebook and other social networking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4"/>
              </a:rPr>
              <a:t>http://blogs.edgehill.ac.uk/webservices/2007/10/30/fear-of-facebook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mments from a UK Univers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5"/>
              </a:rPr>
              <a:t>http://student.independent.co.uk/university_life/article3068385.e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etworking sites: Professors keep out! (October  07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cc"/>
                </a:solidFill>
                <a:uFillTx/>
                <a:latin typeface="Arial"/>
                <a:hlinkClick r:id="rId6"/>
              </a:rPr>
              <a:t>http://www.apple.com/au/education/digitalkids/disconnect/landscape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“digital disconnec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ick Facebook 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and Ownership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iplinary A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abora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ach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social networking”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work for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x control of who can see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sers have a “profile” with a picture* and other personal details as they wish, including “limited profi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“Network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ebook creates a newsfeed based on what your “friends” are do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80" y="6491160"/>
            <a:ext cx="70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* Picture is important for recognition, especially with common na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is Facebook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rted in Harvard University Feb 200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ter added academic addresses (.edu, .ac.uk etc) making “networks” for “college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xford network has just over 33,000 people in it, out a possible c. 45,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egional and Employer networks also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gional” anyone can join, but can’t change too of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mployer” requires email address in the right dom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pened to anyone with email in Sep 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Facebook featu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ssages INBOX (and thre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k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s &amp; Videos (with tagg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ted items (text and URL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ther Social Networking Sit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Bebo – lots of school childr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ySpace – musician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metimes called “poor man’s facebook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Friendfind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wi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 other minor si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Privacy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ople worry about revealing their personal lives to the wor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s and Students may want to keep things from each oth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ricted Profiles can 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ty Theft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n’t show DOB and Home Addres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ebook staff can check profiles (for policy violatio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gs are “cached” on the web so even if you put something up then remove it, it may still be held elsewhere for year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control privacy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vacy screen on Faceboo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tings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ar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s f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ke, message, friend requ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put stuff up you don’t want others to see.  Think about future employers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Ownership Concern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acebook T&amp;Cs say that they own everything you p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ll content on the Site … are the proprietary property of the Compan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pyright Policy is stri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t don’t put things up you intend to publish or otherwise claim copyright to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You acknowledge and agree that any questions, comments, suggestions, ideas, feedback or other information about the Site or the Service ("Submissions"), provided by you to Company are non-confidential and shall become the sole property of Company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y Brett</cp:lastModifiedBy>
  <dcterms:modified xsi:type="dcterms:W3CDTF">2007-11-06T11:26:51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